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232-D8C0-42DB-8980-444D671C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20E-9D96-4669-978D-CCD46183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5780C-B3AC-46D4-818B-FB86D9EC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5023B-F361-4B4E-A255-CCACE9EA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2D17D-B08B-476C-8C7C-6CD5DFBA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5D8F4-9AC8-4EA6-9000-8337E29E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20669-F69E-4F9A-A308-844B0CC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3CD5E-D72F-4AE5-A7CF-1AC9FEF4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02771-9E22-4632-94B7-3E41CDE6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BB14D-5635-4307-B5CB-FB9C73A8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F2586-BF38-4A20-AF16-04F70BA9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0D6D9-ABAB-44EE-89FA-68636C1C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FAE-52B9-404A-8B06-0A3B0815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B26A4-1582-4453-8483-A6AF4533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28E82-E3F1-4FD9-B1AF-1C0BD123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912D9-4CAC-4F19-B19E-E6D663DA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007A1-73CB-4C76-B5D2-698D9C9F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6DF7C-F6D4-4780-9164-B0FD495F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92A9A-B6DF-4F63-A2DB-9EDDAAC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6FEF7-122D-4935-8660-AF462A4F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B76F7-956D-4E97-B720-92DE5F8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73AEB-F545-495D-915B-A769C97A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67270-9644-4746-91B4-59CD5F86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B4E-8087-4C30-B645-B3A96878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E423A-8693-4E2F-AE29-48D75F9E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BE3CA-3F06-4E58-B007-C7F33952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A8C73-FB38-4784-A74C-491487BF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C968D-2BD3-4BB1-BF48-E064B8BD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16490-00C4-4AFA-8365-59964AE4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5CA20-F514-4214-89B8-B95E26BC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A3E04-67AF-4642-BF66-57387C1E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22468-0B3F-4B83-BEE1-E358456C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95B38-AE18-469B-98E6-FADEBAC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3748A-C943-42A8-B9FA-D56D9905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ECE7-2F8F-40FC-9365-6C2072BB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B9225-3272-4B4E-92BD-F1DB7B04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E71A1-C632-4997-AF7F-9A9150EC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7A1E1-45BE-4990-A99B-9AAF86E0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92D6F-B2ED-4871-A357-01FBAFEC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CB18B-C3A0-487A-9DF1-12521880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208E7-2912-4916-9549-82139DB9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5E9D9-65F2-44F7-A342-F4DDA508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22FA6-3BAA-491B-8CE6-AC4867B2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6B8D1-DFD6-4B3B-A819-D863403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16F1D-DFC5-48B3-891E-53239FC5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37A6-E5EF-4AEC-83AA-5315199A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60ACB-C030-4026-B753-6990D509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FA268-CCF4-49B4-86E0-397D31C7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09C76-5897-466F-82B3-7E6C11C4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61B97-377B-4128-9C82-D7A06EBC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AF809-AD3F-4AC1-AC26-F33AD613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9C4C8-EFEC-450E-A3D2-A387BD52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5025B-66BE-487B-8864-787B9DDB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618BD-2870-43CE-BE1E-D67C065D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A1B21-488B-4EEE-A30B-8B98A34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7F66C-100D-4B4A-A0C3-64C7EA6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5C7A-8C63-4132-81C5-B31CA561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9C0E0-4263-4532-8328-24148EDE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473EF-E831-4CD4-856A-30EB71F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A6A07-C54C-4E06-98FE-4B132F3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FA1E2-8F50-4C1A-AB42-5915EE7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7D595-7E7E-48B4-9857-49E5126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63831-1490-4722-B9C5-7EF40B91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EA888-0EFE-4DCB-81E4-FE52A984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D5783-468C-4162-BF24-C9ED4AEB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303A8-37DD-4D6E-958C-70D07A99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BB436-341D-45F6-AB39-2E4E9A4A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7094-2EF1-4A37-85E4-1680ADA4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F1793-E353-45D7-B65D-E498AC64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3C221-E0BF-472B-AEE2-92A6483E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C7595-E4CF-4588-99CC-906E8D93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FCE0B-CC35-4CB0-A147-AE0519F3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1A203-DC93-4459-9286-E2AC7A4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CB1D9-FC0C-4AF3-B8C1-D75E3346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201E4-E4D1-4C32-9E80-F2B02330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A3034-14C9-4B3B-A2A8-A0C11A16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B47B4-B3AB-4783-812D-20B7DD5B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9C9D-58D5-4123-B0C2-C287FD18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021D-1A1A-4EB7-9F77-4DF66BB8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204-DC2E-4197-9824-8601014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ADE-65C1-4E9B-A7BA-C2FC943D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67C1-426C-4EE3-BAF3-DB3463B0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04DA-1885-42BF-AF34-46FE07AC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209E-25CB-4DA8-A69D-4613E058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55FD-A913-4D22-B8DD-260AD8AA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19D5-CB50-4606-9872-3AB9F60E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42D8-D61E-4954-A7CC-894E0888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03B2-ACF8-4BB1-A9A9-B976F363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D76F-C37E-4BA1-A29B-3B14E41E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C2E2-A918-43D7-921F-60FB3D6C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24757-544F-4EE4-A737-7BD37E6A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D38-449A-44FF-98A1-4D42A39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19A2-BD95-41D3-A5E2-C61A4A44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8C0D-26FB-4F31-8B5C-CD7EE34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1B56-4593-4C46-89A8-AB1F05C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1F8A-E997-48D3-BE0D-102E816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D4E7-E7D8-407F-BD00-E90095E9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FEBB-44FB-4385-84C9-747D3E17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252E-562C-4BAA-8D72-DB95F0AC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5A18C-18D8-47B5-9D1B-AA53AE4E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AB32B-347D-4021-A2DB-3D7F4457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E311-607D-40D9-B7B2-BB4D597B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821-9816-47A2-8007-EA696649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AA76-80A3-4506-A0BA-D3EF3C08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3A9C5-4B54-4DAA-9358-A33891B4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E4A3-9BD3-4800-80B0-ADB67FC5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159B-02C1-40B6-BB8F-208B328C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98D8-5764-4C39-9AAC-26914165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07CE-95C0-4A78-8F38-EB0DD735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E26E-27B8-4C86-AE19-10E439D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F85E-F20C-4B6E-A851-F0CCB163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72C9-B33A-48E7-A057-44979EF9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4A3D-38ED-4895-AD5D-09001AB6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829-2CF5-49CE-93FF-CE451C71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5079-F926-4A88-BC5F-5CFC544F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E19E6-9D04-4205-BB86-F230D180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7BDF9-6FDB-4557-BAB8-C1D92570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66B78-685D-4185-8188-D8E373C9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FFAE-3ABD-4E5A-A313-9D2EE9CC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87C14-5E3B-44FD-995D-CFF75946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7A4F-C46E-47BC-A5F3-D680BE96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1300B-E24C-4162-97D4-9F7926A6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A7A28-69F8-4DC8-8E32-09D9C6E8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E4F36-6CF9-4C13-A3D6-C2219DEB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458-0BCD-4EC6-BAC5-78036908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35D3-A484-4E29-982E-998EAB53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8A902-096C-487E-B43B-4362ACD9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6E3B-132B-4828-BF76-3E5818E3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3817-BB4C-4F17-A67C-674580C0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E8575-024C-47D1-97B1-1D1D9B2F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33B44-E14D-48DF-9FCC-5DD705BF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62D04-060B-41CF-A858-1206849B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A7A33-ADDC-44A3-8642-7C6F77B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01758-DA7C-4377-B10F-7244E0C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3B29-F192-49A2-A239-211835E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0E1-BBA7-42EF-ADFC-BED382D7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CE8B-8465-428C-8182-ADEE5757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0BF05-218D-467D-A0B2-43FE3653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11E87-C929-4C77-9041-4E35FCEE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8988A-4162-47F3-BB01-0997B650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7EB71-E03B-4A40-956A-65F3E93F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38ED-6D21-4961-925F-51492BC7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8B2CF-C463-4E2D-BADF-83FA9D9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E510E-BC7F-4692-ADEA-62B22A48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18709-17DF-4920-AA47-AB2F14FA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56419-9BDB-4970-A805-7463F5F6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4C5-6043-41C5-BFA4-9E14778F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7A2B4-9313-4162-B380-B75C84D5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3005-682F-4386-A453-39F4051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473B4-C123-4C8B-B5AE-FD14CBE9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07968-31AC-4BF3-B635-01B7055B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4C064-5ABC-49D0-AB94-68FEE7A5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B9350-FA53-40A7-9110-006644EA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0E10-8292-4A9F-B5D0-BBEC2BBD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86EB1-A97D-421A-A14D-D88AA172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C7DF8-87BD-4BB4-99B2-B16AD10A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45B5F-1A78-4249-9345-3DEA58BA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F35-8581-46BD-ACDD-8515CC0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61FAA-9085-4701-B341-3E086EE7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17EBD-B255-46CB-8077-A8226EDF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96622-CF9C-4A6D-B2E3-2D6430E9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37042-1FAE-4249-97CA-1ECEDD34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5C22B-E952-4607-BF89-5C359063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884E4-297C-442B-8C77-A0B9B9F4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8AF7D-B1FF-4273-B80B-7273CEC4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EFE27-C209-4953-90F9-D276AE13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CA54B-02D7-48F0-8BE2-AD95F125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4ADB5-6AAE-423E-90E6-EB5CFA5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3C73-FA87-4CEF-9379-98AB409F2A7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9C3-D233-4F6E-9132-C14F28F42A8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3C95-0140-4EFE-A9F6-0850BDDD911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AC9E-471D-4A17-B9BA-D17C5064E1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35F9-C1B9-4924-A315-2E31815D0B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2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2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A929-58D5-4BF8-AA6A-EBE3BFAC66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0E4E-8525-44FB-96DD-8898087CFD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B80F-459E-43F2-B4A1-563C706785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B6D8-BBBD-43D3-885B-CD9C1927A64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58A8-AC14-4D93-B950-A0C8B52491F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585F-7CA6-4F85-9807-158431F7D3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81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4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6BD2-4B11-469B-ACA7-92F171ED3FB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31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4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9E51-7348-4C28-92E6-8017D28A3F2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17DB-1DDB-40FE-9A1E-4FFC265DE50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ја организам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гетативн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епродук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ја помоћу репродуктивних ћелија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м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496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ромозомске тетраде у екваторијалној рав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дају се терминалне хијаз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вајају се дијаде и крећу ка супротним полов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ло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ро са смањеним бројем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3" descr="metICRT"/>
          <p:cNvPicPr/>
          <p:nvPr/>
        </p:nvPicPr>
        <p:blipFill>
          <a:blip r:embed="rId1"/>
          <a:stretch/>
        </p:blipFill>
        <p:spPr>
          <a:xfrm>
            <a:off x="6156360" y="765000"/>
            <a:ext cx="1857240" cy="1730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" descr="anaICRT"/>
          <p:cNvPicPr/>
          <p:nvPr/>
        </p:nvPicPr>
        <p:blipFill>
          <a:blip r:embed="rId2"/>
          <a:stretch/>
        </p:blipFill>
        <p:spPr>
          <a:xfrm>
            <a:off x="6156360" y="292428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5" descr="teloICRT"/>
          <p:cNvPicPr/>
          <p:nvPr/>
        </p:nvPicPr>
        <p:blipFill>
          <a:blip r:embed="rId3"/>
          <a:stretch/>
        </p:blipFill>
        <p:spPr>
          <a:xfrm>
            <a:off x="6156360" y="5013360"/>
            <a:ext cx="180036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ејотичка митоза)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5472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тр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де у екваторијалној рав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е центроме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де се крећу ка полов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ло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четири ћелије 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јем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4" descr="profIICRT"/>
          <p:cNvPicPr/>
          <p:nvPr/>
        </p:nvPicPr>
        <p:blipFill>
          <a:blip r:embed="rId1"/>
          <a:stretch/>
        </p:blipFill>
        <p:spPr>
          <a:xfrm>
            <a:off x="6227640" y="907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5" descr="metaIICRT"/>
          <p:cNvPicPr/>
          <p:nvPr/>
        </p:nvPicPr>
        <p:blipFill>
          <a:blip r:embed="rId2"/>
          <a:stretch/>
        </p:blipFill>
        <p:spPr>
          <a:xfrm>
            <a:off x="6227640" y="2421000"/>
            <a:ext cx="1424160" cy="1328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" descr="anaIICRT"/>
          <p:cNvPicPr/>
          <p:nvPr/>
        </p:nvPicPr>
        <p:blipFill>
          <a:blip r:embed="rId3"/>
          <a:stretch/>
        </p:blipFill>
        <p:spPr>
          <a:xfrm>
            <a:off x="6227640" y="3860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7" descr="teloIICRT"/>
          <p:cNvPicPr/>
          <p:nvPr/>
        </p:nvPicPr>
        <p:blipFill>
          <a:blip r:embed="rId4"/>
          <a:stretch/>
        </p:blipFill>
        <p:spPr>
          <a:xfrm>
            <a:off x="6227640" y="5418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јoзa</a:t>
            </a:r>
            <a:br>
              <a:rPr sz="4800"/>
            </a:b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s://www.youtube.com/watch?v=nMEyeKQClq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продукција помоћу гамет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гамет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ога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т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е и покретљив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изога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блику и величини и оба су покрет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ога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ику и велич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ј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а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руги обично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крет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2600"/>
            <a:ext cx="81532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аметогенеза се састоји из три фаз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68000" y="2133720"/>
            <a:ext cx="8064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Фаза размножавањ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митотичком деобом примордијалних герминативних ћелија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 настају  гоније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Фаза раст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 гоније расту и диференцирају се у примарне ооците/сперматоците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Фаза сазревањ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–  мејотичка деоба ћелија (када од једне мајке ћелије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) настају четири ћерке ћелије са  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бројем хромозом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3588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јоза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ба полних ћелија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ује се број хромозома на полов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две узастопне деоб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ејотичка деоба-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укц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мејотичка деоба-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вац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16000" y="220464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ј мејотичкој деоби претходи дуга и интензивна интерфаз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е мејозе: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394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епт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зиг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ахи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пл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јакинез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н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л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3640" y="1700280"/>
            <a:ext cx="32418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н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л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81" name="Picture 3" descr="meiosis"/>
          <p:cNvPicPr/>
          <p:nvPr/>
        </p:nvPicPr>
        <p:blipFill>
          <a:blip r:embed="rId1"/>
          <a:stretch/>
        </p:blipFill>
        <p:spPr>
          <a:xfrm>
            <a:off x="318960" y="692280"/>
            <a:ext cx="8825040" cy="5941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2843280" y="105264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4211640" y="1052640"/>
            <a:ext cx="12384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6084720" y="105264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7667640" y="1125360"/>
            <a:ext cx="13366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7812000" y="602136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6084720" y="6021360"/>
            <a:ext cx="1081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4427640" y="602136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2700360" y="6093000"/>
            <a:ext cx="1081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826920" y="6021360"/>
            <a:ext cx="12384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цитокине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684360" y="1052640"/>
            <a:ext cx="12366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ф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2425680" y="528480"/>
            <a:ext cx="1641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јоз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4"/>
          <p:cNvSpPr/>
          <p:nvPr/>
        </p:nvSpPr>
        <p:spPr>
          <a:xfrm>
            <a:off x="2425680" y="2852640"/>
            <a:ext cx="1714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јоз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sadava_9_16_big_LARGE_2"/>
          <p:cNvPicPr/>
          <p:nvPr/>
        </p:nvPicPr>
        <p:blipFill>
          <a:blip r:embed="rId1">
            <a:lum contrast="12000"/>
          </a:blip>
          <a:srcRect l="0" t="1300" r="0" b="54133"/>
          <a:stretch/>
        </p:blipFill>
        <p:spPr>
          <a:xfrm>
            <a:off x="0" y="1268280"/>
            <a:ext cx="4822920" cy="48974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sadava_9_16_big_LARGE_2"/>
          <p:cNvPicPr/>
          <p:nvPr/>
        </p:nvPicPr>
        <p:blipFill>
          <a:blip r:embed="rId2">
            <a:lum contrast="12000"/>
          </a:blip>
          <a:srcRect l="0" t="49566" r="-2797" b="2840"/>
          <a:stretch/>
        </p:blipFill>
        <p:spPr>
          <a:xfrm>
            <a:off x="4932360" y="170028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4"/>
          <p:cNvSpPr/>
          <p:nvPr/>
        </p:nvSpPr>
        <p:spPr>
          <a:xfrm>
            <a:off x="0" y="620640"/>
            <a:ext cx="15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003640" y="1197000"/>
            <a:ext cx="1368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0" y="1125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на 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1547640" y="1125360"/>
            <a:ext cx="151164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12600" y="375444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203640" y="1125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на 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4643280" y="3933720"/>
            <a:ext cx="15112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на 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1619280" y="3789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203640" y="3789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4643280" y="170028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6084720" y="1700280"/>
            <a:ext cx="151164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7451640" y="170028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6227640" y="393372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Prophase%25201"/>
          <p:cNvPicPr/>
          <p:nvPr/>
        </p:nvPicPr>
        <p:blipFill>
          <a:blip r:embed="rId1"/>
          <a:srcRect l="0" t="0" r="0" b="4289"/>
          <a:stretch/>
        </p:blipFill>
        <p:spPr>
          <a:xfrm>
            <a:off x="3708360" y="1484280"/>
            <a:ext cx="5435640" cy="489744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аза прве мејотичке деоб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4140360" y="3573360"/>
            <a:ext cx="135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пто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5867280" y="3573360"/>
            <a:ext cx="12780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иго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7704000" y="3573360"/>
            <a:ext cx="14400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ахи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4067280" y="6021360"/>
            <a:ext cx="1422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пло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5724360" y="6021360"/>
            <a:ext cx="1729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јакинез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7559640" y="6021360"/>
            <a:ext cx="1584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8177040" y="2046240"/>
            <a:ext cx="99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тр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4716360" y="1628640"/>
            <a:ext cx="1297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Центром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6732720" y="3284640"/>
            <a:ext cx="11509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инапс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3419640" y="4724280"/>
            <a:ext cx="990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ија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67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ЛЕПТО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асти, издужени хромозо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ЗИГО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 се синапсис и бивален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АХИ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 се тетрад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ing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ПЛО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ализација хијаз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ЈАКИНЕЗ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гласт облик хромозо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је једарце и једрова оп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2-08-25T14:40:00Z</dcterms:modified>
  <cp:revision>233</cp:revision>
  <dc:subject/>
  <dc:title>MUTACIJE GENA</dc:title>
</cp:coreProperties>
</file>